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5D58-7098-4530-8228-0D122213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A457-BBCE-47CA-B46E-376D71FDE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E634-E52D-4740-87D8-8BA607BF9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D672-427B-4C7F-A326-B447E7D0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270-7351-4A59-B9B7-CF8BC8CE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553-7D46-4D3A-A5F3-4A414842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D17-7410-4C3A-BF88-F988261A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045-10CE-481D-954D-53A8DADC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750-3594-4F29-B3B2-3926B0EE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AE7-DC72-47A8-9B97-17D99A9A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9F2-72E8-4CB8-A2FD-79570C76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22C-D024-46DA-BA0D-15F31CC2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9E2-6A37-4879-A7ED-BCCE30BD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AAF-DB5D-4783-8796-E5AF0A95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AD6-9275-4E1B-852E-F15915BB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245-655D-4F2F-B89D-CDB561F8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1F2D-8584-4699-8C93-00E9A7BEA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2124000" y="1868400"/>
            <a:ext cx="312444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1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3" descr="2"/>
          <p:cNvPicPr/>
          <p:nvPr/>
        </p:nvPicPr>
        <p:blipFill>
          <a:blip r:embed="rId2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5" descr="5"/>
          <p:cNvPicPr/>
          <p:nvPr/>
        </p:nvPicPr>
        <p:blipFill>
          <a:blip r:embed="rId3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7" descr="oaththp"/>
          <p:cNvPicPr/>
          <p:nvPr/>
        </p:nvPicPr>
        <p:blipFill>
          <a:blip r:embed="rId4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9" descr="celebthp"/>
          <p:cNvPicPr/>
          <p:nvPr/>
        </p:nvPicPr>
        <p:blipFill>
          <a:blip r:embed="rId5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1" descr="JohnFKennedy_FrankSinatra"/>
          <p:cNvPicPr/>
          <p:nvPr/>
        </p:nvPicPr>
        <p:blipFill>
          <a:blip r:embed="rId6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3" descr="grmykthp"/>
          <p:cNvPicPr/>
          <p:nvPr/>
        </p:nvPicPr>
        <p:blipFill>
          <a:blip r:embed="rId7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glennthp"/>
          <p:cNvPicPr/>
          <p:nvPr/>
        </p:nvPicPr>
        <p:blipFill>
          <a:blip r:embed="rId8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Mary Beverly</cp:lastModifiedBy>
  <dcterms:modified xsi:type="dcterms:W3CDTF">2015-03-13T13:31:37Z</dcterms:modified>
  <cp:revision>20</cp:revision>
  <dc:subject/>
  <dc:title>Profile</dc:title>
</cp:coreProperties>
</file>